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E5FD-DA67-4D11-9D8C-043374AB342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D1F9-06F3-4324-A188-677BE95DD34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B433-EC01-49B6-ABE5-0C5D128048D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56E6-717A-41D3-B8B7-E672B732AF7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7970-A0DE-42BA-8BCB-F019CB0AAD3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A195-C482-4C19-94AD-3143DE2C7E1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3C3D-BEA3-47C3-8FD6-D3C0BAE4D07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CCB9-CE59-4412-8D20-DF1D47011DF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CC30-20EA-4434-ACD2-29E46C46C61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92E4-3A87-4B84-8599-196CA1DB431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0631-3C04-4015-AFE4-D58EB79A2A4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9CE4-282B-440B-A966-F0F4F19D582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42DC-8BC2-4E39-84FC-EF786B4FF38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04F0-B2E9-4FBA-846A-3C5A71C626F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5F6D3-9741-48EF-B243-CE1D6D2F99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DCF77-0BA0-4CEB-97D2-30DF3C1F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213C4-B687-48A8-A306-C24B253F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67BEA-10D9-43D1-B057-5FF628AD64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D96A1-BCFA-4A48-AAA1-B4EA8C2E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8DDFC-AB0B-4C08-8611-592E6C64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D283D-27AB-4B8C-9119-CF0766B8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09D07-5BB5-4E32-B00A-43D3047D2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801CB-C6AE-41A2-A274-50FDF4FC1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5559A-BB0C-4CA0-8E32-222DD064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C2725-3C11-4622-88DE-E7DC4C16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CB1A3-0251-4A87-B41B-A45F6D3C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FA95-8825-449C-884E-441B629EAEB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急性中毒患者的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4284720" y="6524640"/>
            <a:ext cx="1224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3C6C-987C-4AAF-AE07-B900FA135C5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659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清除眼内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内毒物可用清水或生理盐水反复冲洗，冲洗时间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不少于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分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避免使用中和性溶液冲洗，以免发生化学反应，造成角膜、结膜的损伤。冲洗后给予抗生素眼药水或眼膏，防治继发感染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4356000" y="6524640"/>
            <a:ext cx="12016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584C-B58B-433E-83BB-DFF4844080B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881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清除胃肠道内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于胃肠道内尚未吸收的毒物，应尽早给予催吐、洗胃、灌肠、导泻或活性炭吸附等方法清除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4572000" y="6524640"/>
            <a:ext cx="115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7E02-B222-4488-8C6B-BEF3C945873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促进已吸收毒物的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利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利尿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调节尿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4427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1A0E-3D37-430A-8086-649FEEBD25C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吸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血液净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析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灌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浆置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450072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F6FD-C2B5-4FD9-85A6-35F549E62C3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特效解毒剂的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高铁血红蛋白血症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剂量亚甲蓝（美蓝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可使高铁血红蛋白还原为正常的血红蛋白，可用于亚硝酸盐、硝基苯、苯胺等中毒引起的高铁血红蛋白血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471636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1332-5D9F-4E94-AED1-64294C59B19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金属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依地酸钙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氨酸螯合剂，适用于铅、锰、铜、镉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丙醇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巯基螯合剂，适用于砷、汞、金、锑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丁二酸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广谱金属解毒剂，适用于铅、汞、银、铜、砷、锑、镍等金属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4356000" y="6524640"/>
            <a:ext cx="1079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6BF0-EDF3-4F62-A194-FECDAC01041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抑制剂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纳洛酮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吗啡受体拮抗剂，是阿片类麻醉药的解毒剂，对麻醉镇痛引起的呼吸抑制有特异的拮抗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苯二氮䓬类药物中毒的拮抗剂，用于安定、利眠宁等中毒的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4572000" y="6524640"/>
            <a:ext cx="1008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071B-59D3-4889-8C68-E62912367C2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有机磷杀虫药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常用的有阿托品、解磷定、酸戊已奎醚注射液（长托宁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氰化物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采用亚硝酸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硫代硫酸钠疗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450072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4ABC-09DF-44D2-A245-AC3E46EEFB9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五、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大多数急性中毒并无特效解毒剂，或短时间内很难明确毒物的种类和性质，因此对症支持治疗非常重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另外，还应采取积极措施维护心、脑、肺、肝、肾等重要脏器功能，防治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F728-0604-43BF-9277-516C54E4F57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中毒的基本救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的中毒抢救技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见急性中毒患者的救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56760" y="1412640"/>
            <a:ext cx="861084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适用于神志清醒且能合作的非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F619-7BF2-4F75-8E6B-15B5A04F528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、惊厥状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食管胃底静脉曲张、主动脉瘤、消化性溃疡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休克、高血压、肺水肿、冠心病、妊娠、年老体弱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饮用汽油、柴油、煤油等石油蒸馏物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499760"/>
            <a:ext cx="871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方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机械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药物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F65E-B69A-41B5-B7B8-C8567D5A3F2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注意事项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急性中毒者，应迅速采用口服催吐法，必要时进行洗胃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呕吐发生时，患者采取左侧卧位，头部放低，面向左侧，臀部略抬高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幼儿应俯卧，头向下，臀部略抬高，以防止呕吐物吸入气管发生窒息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8920" y="1499760"/>
            <a:ext cx="8788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服毒物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时内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效果最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非腐蚀性毒物中毒，如镇静催眠药、有机磷杀虫剂、生物碱、重金属类及食物中毒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幽门梗阻伴有明显胃潴留扩张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375B-B543-45F0-8062-4DE377A61A9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1499760"/>
            <a:ext cx="8967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强酸、强碱等腐蚀性毒物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性溃疡、食管胃底静脉曲张、胃癌、上消化道大出血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主动脉瘤、重度心肺功能不全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惊厥或抽搐未控制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8071-B844-4110-A86D-751536724F2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72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常用洗胃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吸附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和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沉淀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溶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5F5B-7E99-443C-A54D-0D1EC35AEF5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线形标注 2 2"/>
          <p:cNvSpPr/>
          <p:nvPr/>
        </p:nvSpPr>
        <p:spPr>
          <a:xfrm>
            <a:off x="3692520" y="1165320"/>
            <a:ext cx="5343480" cy="7570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8361"/>
              <a:gd name="adj6" fmla="val -2556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豆浆、牛奶、蛋清、米汤、植物油暂时保护胃黏膜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线形标注 1 3"/>
          <p:cNvSpPr/>
          <p:nvPr/>
        </p:nvSpPr>
        <p:spPr>
          <a:xfrm>
            <a:off x="3692520" y="1995480"/>
            <a:ext cx="5343480" cy="576360"/>
          </a:xfrm>
          <a:prstGeom prst="borderCallout1">
            <a:avLst>
              <a:gd name="adj1" fmla="val 18750"/>
              <a:gd name="adj2" fmla="val -8333"/>
              <a:gd name="adj3" fmla="val 102564"/>
              <a:gd name="adj4" fmla="val -25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活性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线形标注 1 4"/>
          <p:cNvSpPr/>
          <p:nvPr/>
        </p:nvSpPr>
        <p:spPr>
          <a:xfrm>
            <a:off x="3692520" y="2690640"/>
            <a:ext cx="5343480" cy="1025640"/>
          </a:xfrm>
          <a:prstGeom prst="borderCallout1">
            <a:avLst>
              <a:gd name="adj1" fmla="val 18750"/>
              <a:gd name="adj2" fmla="val -8333"/>
              <a:gd name="adj3" fmla="val 47722"/>
              <a:gd name="adj4" fmla="val -263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吞服强碱时：选择弱酸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食醋、果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吞服强酸时：选择弱碱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氢氧化铝凝胶、镁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线形标注 1 5"/>
          <p:cNvSpPr/>
          <p:nvPr/>
        </p:nvSpPr>
        <p:spPr>
          <a:xfrm>
            <a:off x="3708360" y="3860640"/>
            <a:ext cx="5327640" cy="576360"/>
          </a:xfrm>
          <a:prstGeom prst="borderCallout1">
            <a:avLst>
              <a:gd name="adj1" fmla="val 18750"/>
              <a:gd name="adj2" fmla="val -8333"/>
              <a:gd name="adj3" fmla="val -20291"/>
              <a:gd name="adj4" fmla="val -2573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高锰酸钾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碳酸氢钠溶液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线形标注 1 6"/>
          <p:cNvSpPr/>
          <p:nvPr/>
        </p:nvSpPr>
        <p:spPr>
          <a:xfrm>
            <a:off x="3708360" y="4653000"/>
            <a:ext cx="5327640" cy="720720"/>
          </a:xfrm>
          <a:prstGeom prst="borderCallout1">
            <a:avLst>
              <a:gd name="adj1" fmla="val 18750"/>
              <a:gd name="adj2" fmla="val -8333"/>
              <a:gd name="adj3" fmla="val -56208"/>
              <a:gd name="adj4" fmla="val -2680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硫酸钠与可溶性钡盐作用生成不溶性硫酸钡，生理盐水与硝酸盐作用生成氯化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线形标注 1 7"/>
          <p:cNvSpPr/>
          <p:nvPr/>
        </p:nvSpPr>
        <p:spPr>
          <a:xfrm>
            <a:off x="3708360" y="5567400"/>
            <a:ext cx="5316480" cy="828720"/>
          </a:xfrm>
          <a:prstGeom prst="borderCallout1">
            <a:avLst>
              <a:gd name="adj1" fmla="val 18750"/>
              <a:gd name="adj2" fmla="val -8333"/>
              <a:gd name="adj3" fmla="val -79078"/>
              <a:gd name="adj4" fmla="val -3134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饮用汽油、煤油等脂溶性毒物者，先用液体石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D62F-81A2-4B6D-AE2A-8B496FA5E10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急性中毒患者的救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468360" y="907920"/>
            <a:ext cx="4798800" cy="720360"/>
            <a:chOff x="468360" y="907920"/>
            <a:chExt cx="4798800" cy="720360"/>
          </a:xfrm>
        </p:grpSpPr>
        <p:grpSp>
          <p:nvGrpSpPr>
            <p:cNvPr id="210" name="Group 5"/>
            <p:cNvGrpSpPr/>
            <p:nvPr/>
          </p:nvGrpSpPr>
          <p:grpSpPr>
            <a:xfrm>
              <a:off x="468360" y="907920"/>
              <a:ext cx="761400" cy="720360"/>
              <a:chOff x="468360" y="907920"/>
              <a:chExt cx="761400" cy="72036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74480" y="920160"/>
                <a:ext cx="755280" cy="708120"/>
              </a:xfrm>
              <a:prstGeom prst="hexagon">
                <a:avLst>
                  <a:gd name="adj" fmla="val 2666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AutoShape 7"/>
              <p:cNvSpPr/>
              <p:nvPr/>
            </p:nvSpPr>
            <p:spPr>
              <a:xfrm>
                <a:off x="468360" y="907920"/>
                <a:ext cx="755640" cy="708120"/>
              </a:xfrm>
              <a:prstGeom prst="hexagon">
                <a:avLst>
                  <a:gd name="adj" fmla="val 2667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AutoShape 8"/>
              <p:cNvSpPr/>
              <p:nvPr/>
            </p:nvSpPr>
            <p:spPr>
              <a:xfrm>
                <a:off x="468360" y="950400"/>
                <a:ext cx="720720" cy="606240"/>
              </a:xfrm>
              <a:prstGeom prst="hexagon">
                <a:avLst>
                  <a:gd name="adj" fmla="val 26660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4" name="Line 9"/>
            <p:cNvSpPr/>
            <p:nvPr/>
          </p:nvSpPr>
          <p:spPr>
            <a:xfrm>
              <a:off x="1044360" y="1532160"/>
              <a:ext cx="3888000" cy="241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1476360" y="1052280"/>
              <a:ext cx="379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机磷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652680" y="962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468360" y="1700280"/>
            <a:ext cx="4462200" cy="664920"/>
            <a:chOff x="468360" y="1700280"/>
            <a:chExt cx="4462200" cy="664920"/>
          </a:xfrm>
        </p:grpSpPr>
        <p:grpSp>
          <p:nvGrpSpPr>
            <p:cNvPr id="218" name="Group 13"/>
            <p:cNvGrpSpPr/>
            <p:nvPr/>
          </p:nvGrpSpPr>
          <p:grpSpPr>
            <a:xfrm>
              <a:off x="468360" y="1700280"/>
              <a:ext cx="811440" cy="664920"/>
              <a:chOff x="468360" y="1700280"/>
              <a:chExt cx="811440" cy="664920"/>
            </a:xfrm>
          </p:grpSpPr>
          <p:sp>
            <p:nvSpPr>
              <p:cNvPr id="219" name="AutoShape 14"/>
              <p:cNvSpPr/>
              <p:nvPr/>
            </p:nvSpPr>
            <p:spPr>
              <a:xfrm>
                <a:off x="475200" y="1711440"/>
                <a:ext cx="804600" cy="653760"/>
              </a:xfrm>
              <a:prstGeom prst="hexagon">
                <a:avLst>
                  <a:gd name="adj" fmla="val 3076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AutoShape 15"/>
              <p:cNvSpPr/>
              <p:nvPr/>
            </p:nvSpPr>
            <p:spPr>
              <a:xfrm>
                <a:off x="468360" y="1700280"/>
                <a:ext cx="804600" cy="653760"/>
              </a:xfrm>
              <a:prstGeom prst="hexagon">
                <a:avLst>
                  <a:gd name="adj" fmla="val 3076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AutoShape 16"/>
              <p:cNvSpPr/>
              <p:nvPr/>
            </p:nvSpPr>
            <p:spPr>
              <a:xfrm>
                <a:off x="515880" y="1739880"/>
                <a:ext cx="705960" cy="574560"/>
              </a:xfrm>
              <a:prstGeom prst="hexagon">
                <a:avLst>
                  <a:gd name="adj" fmla="val 3073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2" name="Line 17"/>
            <p:cNvSpPr/>
            <p:nvPr/>
          </p:nvSpPr>
          <p:spPr>
            <a:xfrm>
              <a:off x="1081800" y="2276280"/>
              <a:ext cx="38487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2005920" y="177156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百草枯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676080" y="1750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20"/>
          <p:cNvGrpSpPr/>
          <p:nvPr/>
        </p:nvGrpSpPr>
        <p:grpSpPr>
          <a:xfrm>
            <a:off x="468360" y="2492280"/>
            <a:ext cx="4537080" cy="665280"/>
            <a:chOff x="468360" y="2492280"/>
            <a:chExt cx="4537080" cy="665280"/>
          </a:xfrm>
        </p:grpSpPr>
        <p:grpSp>
          <p:nvGrpSpPr>
            <p:cNvPr id="226" name="Group 21"/>
            <p:cNvGrpSpPr/>
            <p:nvPr/>
          </p:nvGrpSpPr>
          <p:grpSpPr>
            <a:xfrm>
              <a:off x="468360" y="2492280"/>
              <a:ext cx="761400" cy="665280"/>
              <a:chOff x="468360" y="2492280"/>
              <a:chExt cx="761400" cy="665280"/>
            </a:xfrm>
          </p:grpSpPr>
          <p:sp>
            <p:nvSpPr>
              <p:cNvPr id="227" name="AutoShape 22"/>
              <p:cNvSpPr/>
              <p:nvPr/>
            </p:nvSpPr>
            <p:spPr>
              <a:xfrm>
                <a:off x="474480" y="2503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AutoShape 23"/>
              <p:cNvSpPr/>
              <p:nvPr/>
            </p:nvSpPr>
            <p:spPr>
              <a:xfrm>
                <a:off x="468360" y="2492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utoShape 24"/>
              <p:cNvSpPr/>
              <p:nvPr/>
            </p:nvSpPr>
            <p:spPr>
              <a:xfrm>
                <a:off x="512640" y="2531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25"/>
            <p:cNvSpPr/>
            <p:nvPr/>
          </p:nvSpPr>
          <p:spPr>
            <a:xfrm>
              <a:off x="1044360" y="3068640"/>
              <a:ext cx="396108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2150280" y="2563920"/>
              <a:ext cx="200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灭鼠剂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652680" y="2543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3" name="Group 28"/>
          <p:cNvGrpSpPr/>
          <p:nvPr/>
        </p:nvGrpSpPr>
        <p:grpSpPr>
          <a:xfrm>
            <a:off x="468360" y="3284640"/>
            <a:ext cx="4534920" cy="664920"/>
            <a:chOff x="468360" y="3284640"/>
            <a:chExt cx="4534920" cy="664920"/>
          </a:xfrm>
        </p:grpSpPr>
        <p:grpSp>
          <p:nvGrpSpPr>
            <p:cNvPr id="234" name="Group 29"/>
            <p:cNvGrpSpPr/>
            <p:nvPr/>
          </p:nvGrpSpPr>
          <p:grpSpPr>
            <a:xfrm>
              <a:off x="468360" y="3284640"/>
              <a:ext cx="810720" cy="664920"/>
              <a:chOff x="468360" y="3284640"/>
              <a:chExt cx="810720" cy="664920"/>
            </a:xfrm>
          </p:grpSpPr>
          <p:sp>
            <p:nvSpPr>
              <p:cNvPr id="235" name="AutoShape 30"/>
              <p:cNvSpPr/>
              <p:nvPr/>
            </p:nvSpPr>
            <p:spPr>
              <a:xfrm>
                <a:off x="475200" y="3295800"/>
                <a:ext cx="803880" cy="653760"/>
              </a:xfrm>
              <a:prstGeom prst="hexagon">
                <a:avLst>
                  <a:gd name="adj" fmla="val 3074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AutoShape 31"/>
              <p:cNvSpPr/>
              <p:nvPr/>
            </p:nvSpPr>
            <p:spPr>
              <a:xfrm>
                <a:off x="468360" y="3284640"/>
                <a:ext cx="803880" cy="653760"/>
              </a:xfrm>
              <a:prstGeom prst="hexagon">
                <a:avLst>
                  <a:gd name="adj" fmla="val 3074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7" name="AutoShape 32"/>
              <p:cNvSpPr/>
              <p:nvPr/>
            </p:nvSpPr>
            <p:spPr>
              <a:xfrm>
                <a:off x="515880" y="3324240"/>
                <a:ext cx="672480" cy="574560"/>
              </a:xfrm>
              <a:prstGeom prst="hexagon">
                <a:avLst>
                  <a:gd name="adj" fmla="val 3071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1081440" y="3860640"/>
              <a:ext cx="392184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1581840" y="3335040"/>
              <a:ext cx="1954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675720" y="333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1" name="Group 36"/>
          <p:cNvGrpSpPr/>
          <p:nvPr/>
        </p:nvGrpSpPr>
        <p:grpSpPr>
          <a:xfrm>
            <a:off x="468360" y="4076640"/>
            <a:ext cx="4534920" cy="665280"/>
            <a:chOff x="468360" y="4076640"/>
            <a:chExt cx="4534920" cy="665280"/>
          </a:xfrm>
        </p:grpSpPr>
        <p:grpSp>
          <p:nvGrpSpPr>
            <p:cNvPr id="242" name="Group 37"/>
            <p:cNvGrpSpPr/>
            <p:nvPr/>
          </p:nvGrpSpPr>
          <p:grpSpPr>
            <a:xfrm>
              <a:off x="468360" y="4076640"/>
              <a:ext cx="798120" cy="665280"/>
              <a:chOff x="468360" y="4076640"/>
              <a:chExt cx="798120" cy="665280"/>
            </a:xfrm>
          </p:grpSpPr>
          <p:sp>
            <p:nvSpPr>
              <p:cNvPr id="243" name="AutoShape 38"/>
              <p:cNvSpPr/>
              <p:nvPr/>
            </p:nvSpPr>
            <p:spPr>
              <a:xfrm>
                <a:off x="474840" y="4087800"/>
                <a:ext cx="791640" cy="654120"/>
              </a:xfrm>
              <a:prstGeom prst="hexagon">
                <a:avLst>
                  <a:gd name="adj" fmla="val 302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utoShape 39"/>
              <p:cNvSpPr/>
              <p:nvPr/>
            </p:nvSpPr>
            <p:spPr>
              <a:xfrm>
                <a:off x="468360" y="4076640"/>
                <a:ext cx="792000" cy="654120"/>
              </a:xfrm>
              <a:prstGeom prst="hexagon">
                <a:avLst>
                  <a:gd name="adj" fmla="val 3027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AutoShape 40"/>
              <p:cNvSpPr/>
              <p:nvPr/>
            </p:nvSpPr>
            <p:spPr>
              <a:xfrm>
                <a:off x="514080" y="4116240"/>
                <a:ext cx="694800" cy="574920"/>
              </a:xfrm>
              <a:prstGeom prst="hexagon">
                <a:avLst>
                  <a:gd name="adj" fmla="val 3022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6" name="Line 41"/>
            <p:cNvSpPr/>
            <p:nvPr/>
          </p:nvSpPr>
          <p:spPr>
            <a:xfrm>
              <a:off x="1072080" y="4653000"/>
              <a:ext cx="39312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Text Box 42"/>
            <p:cNvSpPr/>
            <p:nvPr/>
          </p:nvSpPr>
          <p:spPr>
            <a:xfrm>
              <a:off x="1564920" y="4148280"/>
              <a:ext cx="19260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43"/>
            <p:cNvSpPr/>
            <p:nvPr/>
          </p:nvSpPr>
          <p:spPr>
            <a:xfrm>
              <a:off x="669960" y="4127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44"/>
          <p:cNvGrpSpPr/>
          <p:nvPr/>
        </p:nvGrpSpPr>
        <p:grpSpPr>
          <a:xfrm>
            <a:off x="468360" y="4869000"/>
            <a:ext cx="4608360" cy="664920"/>
            <a:chOff x="468360" y="4869000"/>
            <a:chExt cx="4608360" cy="664920"/>
          </a:xfrm>
        </p:grpSpPr>
        <p:grpSp>
          <p:nvGrpSpPr>
            <p:cNvPr id="250" name="Group 45"/>
            <p:cNvGrpSpPr/>
            <p:nvPr/>
          </p:nvGrpSpPr>
          <p:grpSpPr>
            <a:xfrm>
              <a:off x="468360" y="4869000"/>
              <a:ext cx="761400" cy="664920"/>
              <a:chOff x="468360" y="4869000"/>
              <a:chExt cx="761400" cy="664920"/>
            </a:xfrm>
          </p:grpSpPr>
          <p:sp>
            <p:nvSpPr>
              <p:cNvPr id="251" name="AutoShape 46"/>
              <p:cNvSpPr/>
              <p:nvPr/>
            </p:nvSpPr>
            <p:spPr>
              <a:xfrm>
                <a:off x="474480" y="48801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47"/>
              <p:cNvSpPr/>
              <p:nvPr/>
            </p:nvSpPr>
            <p:spPr>
              <a:xfrm>
                <a:off x="468360" y="48690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48"/>
              <p:cNvSpPr/>
              <p:nvPr/>
            </p:nvSpPr>
            <p:spPr>
              <a:xfrm>
                <a:off x="512640" y="49086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Line 49"/>
            <p:cNvSpPr/>
            <p:nvPr/>
          </p:nvSpPr>
          <p:spPr>
            <a:xfrm>
              <a:off x="1044360" y="5445000"/>
              <a:ext cx="40323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Text Box 50"/>
            <p:cNvSpPr/>
            <p:nvPr/>
          </p:nvSpPr>
          <p:spPr>
            <a:xfrm>
              <a:off x="2255760" y="491940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镇静催眠药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51"/>
            <p:cNvSpPr/>
            <p:nvPr/>
          </p:nvSpPr>
          <p:spPr>
            <a:xfrm>
              <a:off x="652680" y="49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7" name="矩形 55"/>
          <p:cNvSpPr/>
          <p:nvPr/>
        </p:nvSpPr>
        <p:spPr>
          <a:xfrm>
            <a:off x="1403280" y="3284640"/>
            <a:ext cx="42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氧化碳中毒患者的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56"/>
          <p:cNvSpPr/>
          <p:nvPr/>
        </p:nvSpPr>
        <p:spPr>
          <a:xfrm>
            <a:off x="1403280" y="407664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急性酒精中毒患者的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9" name="Group 44"/>
          <p:cNvGrpSpPr/>
          <p:nvPr/>
        </p:nvGrpSpPr>
        <p:grpSpPr>
          <a:xfrm>
            <a:off x="468360" y="5732640"/>
            <a:ext cx="4608360" cy="666000"/>
            <a:chOff x="468360" y="5732640"/>
            <a:chExt cx="4608360" cy="666000"/>
          </a:xfrm>
        </p:grpSpPr>
        <p:grpSp>
          <p:nvGrpSpPr>
            <p:cNvPr id="260" name="Group 45"/>
            <p:cNvGrpSpPr/>
            <p:nvPr/>
          </p:nvGrpSpPr>
          <p:grpSpPr>
            <a:xfrm>
              <a:off x="468360" y="5732640"/>
              <a:ext cx="761400" cy="666000"/>
              <a:chOff x="468360" y="5732640"/>
              <a:chExt cx="761400" cy="666000"/>
            </a:xfrm>
          </p:grpSpPr>
          <p:sp>
            <p:nvSpPr>
              <p:cNvPr id="261" name="AutoShape 46"/>
              <p:cNvSpPr/>
              <p:nvPr/>
            </p:nvSpPr>
            <p:spPr>
              <a:xfrm>
                <a:off x="474480" y="5743800"/>
                <a:ext cx="755280" cy="654840"/>
              </a:xfrm>
              <a:prstGeom prst="hexagon">
                <a:avLst>
                  <a:gd name="adj" fmla="val 2883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47"/>
              <p:cNvSpPr/>
              <p:nvPr/>
            </p:nvSpPr>
            <p:spPr>
              <a:xfrm>
                <a:off x="468360" y="5732640"/>
                <a:ext cx="755640" cy="654840"/>
              </a:xfrm>
              <a:prstGeom prst="hexagon">
                <a:avLst>
                  <a:gd name="adj" fmla="val 2884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3" name="AutoShape 48"/>
              <p:cNvSpPr/>
              <p:nvPr/>
            </p:nvSpPr>
            <p:spPr>
              <a:xfrm>
                <a:off x="512640" y="5771880"/>
                <a:ext cx="663480" cy="576000"/>
              </a:xfrm>
              <a:prstGeom prst="hexagon">
                <a:avLst>
                  <a:gd name="adj" fmla="val 2881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4" name="Line 49"/>
            <p:cNvSpPr/>
            <p:nvPr/>
          </p:nvSpPr>
          <p:spPr>
            <a:xfrm>
              <a:off x="1044360" y="6310080"/>
              <a:ext cx="40323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50"/>
            <p:cNvSpPr/>
            <p:nvPr/>
          </p:nvSpPr>
          <p:spPr>
            <a:xfrm>
              <a:off x="2097720" y="5783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强酸强碱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51"/>
            <p:cNvSpPr/>
            <p:nvPr/>
          </p:nvSpPr>
          <p:spPr>
            <a:xfrm>
              <a:off x="653400" y="578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有机磷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6C5B-D0CC-4775-ACDF-EF68A92E2B4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圆角矩形 4"/>
          <p:cNvSpPr/>
          <p:nvPr/>
        </p:nvSpPr>
        <p:spPr>
          <a:xfrm>
            <a:off x="324000" y="2349360"/>
            <a:ext cx="8496000" cy="352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案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6-1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突然昏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小时急诊入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6.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5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处于浅昏迷状态，面色苍白，口唇紫绀，口吐白沫，皮肤湿冷，呼吸困难，双侧瞳孔缩小如针尖，呼吸有大蒜样臭味，听诊肺部湿啰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问题：该患者最可能发生什么状况？为进一步明确诊断，需要做哪些检查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抑制胆碱酯酶的活性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导致胆碱能神经递质大量积聚，作用于胆碱受体，引起胆碱能神经先兴奋后抑制的一系列毒蕈碱样、烟碱样及中枢神经系统中毒的症状和体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361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急性中毒的基本救治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催吐和洗胃的适应证、禁忌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常见毒物中毒的临床表现和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0D8B-79EC-4991-8697-6244ADFDA81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24000" y="90792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蕈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烟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全血胆碱酯酶活性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有机磷杀虫药代谢产物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体液不足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严重呕吐、腹泻导致体液丢失过多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气体交换受损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呼吸道腺体分泌过多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有机磷毒物累及中枢神经系统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对有机磷杀虫药毒性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肺水肿、呼吸衰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26828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立即脱离中毒现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药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抗胆碱药和胆碱酯酶复能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生命体征稳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密切观察病情和生命体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药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百草枯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草枯是一种被广泛应用于园艺和农业生产中的除草剂，对人、畜具有很强毒性，且无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百草枯作用于细胞的氧化还原反应，在细胞内活化氧自由基是中毒作用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24000" y="98100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局部刺激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呼吸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泌尿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循环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物鉴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低效性呼吸型态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百草枯作用于呼吸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肾功能障碍、消化道出血、肝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百草枯中毒及相关急救常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脱离中毒现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促进已吸收毒物的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严密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88567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清除胃肠道中毒物的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催吐和洗胃两种中毒抢救技术的异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常见毒物中毒的中毒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一氧化碳中毒进行高压氧治疗的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强酸中毒与强碱中毒在临床表现及救护措施上的区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7747-1923-44CC-809E-CAFD77C7990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急性灭鼠剂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鼠强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氟乙酸钠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磷化锌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神经、呼吸、消化等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灭鼠剂对人体毒性的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毒鼠强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氟乙酸钠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磷化锌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线形标注 2 4"/>
          <p:cNvSpPr/>
          <p:nvPr/>
        </p:nvSpPr>
        <p:spPr>
          <a:xfrm>
            <a:off x="4356000" y="2133720"/>
            <a:ext cx="4608720" cy="10792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74157"/>
              <a:gd name="adj6" fmla="val -2003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控制抽搐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解毒剂：二巯基丙磺酸钠、维生素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线形标注 2 5"/>
          <p:cNvSpPr/>
          <p:nvPr/>
        </p:nvSpPr>
        <p:spPr>
          <a:xfrm>
            <a:off x="4284720" y="3500280"/>
            <a:ext cx="4648320" cy="11509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0097"/>
              <a:gd name="adj6" fmla="val -2310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乙酰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线形标注 2 6"/>
          <p:cNvSpPr/>
          <p:nvPr/>
        </p:nvSpPr>
        <p:spPr>
          <a:xfrm>
            <a:off x="4211640" y="4869000"/>
            <a:ext cx="4753080" cy="1008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46384"/>
              <a:gd name="adj6" fmla="val -234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一氧化碳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人体吸入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后，通过肺泡进入血液循环，与血液中红细胞的血红蛋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Hb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结合，形成稳定的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碳氧血红蛋白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不能携带氧，且不易解离，使血红蛋白氧解离曲线左移，血液的携氧能力降低，从而导致组织缺氧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2400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轻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重度中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毒后迟发性脑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血液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大脑缺氧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心输出量减少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心肌缺氧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有中毒后迟发性脑病的危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人体毒性的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撤离现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预防中毒后迟发性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氧疗的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急性酒精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酒精，学名乙醇，是日常生活中各类酒饮料的主要成分，也可用作医用消毒剂、工业原料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中枢神经系统损害、代谢异常、心脏损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8567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有机磷杀虫药中毒时，遵医嘱应用胆碱酯酶复能剂的用药观察与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出各种常见急性中毒患者的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5485-4175-4146-95BA-5142F112CAA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兴奋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共济失调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昏迷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清乙醇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和电解质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糖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肝功能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酒精作用于中枢神经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酒精对人体毒性的认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休克，窒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催吐、洗胃、促进乙醇的体内代谢和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纳洛酮是阿片类受体拮抗剂，具有改善呼吸和循环功能、兴奋呼吸和催醒的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密切观察病情变化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安全防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六、急性镇静催眠药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是中枢神经系统抑制剂，在临床上广泛应用于镇静、催眠、抗惊厥以及麻醉前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巴比妥类和苯二氮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镇静催眠药中毒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中毒：轻度中毒、中度中毒、重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苯二氮䓬类药物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、尿液、胃液中药物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生化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镇静催眠药作用于中枢神经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呼吸抑制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清除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苯二氮䓬类药物中毒的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重要器官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防治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5"/>
          <p:cNvSpPr/>
          <p:nvPr/>
        </p:nvSpPr>
        <p:spPr>
          <a:xfrm>
            <a:off x="4067280" y="6524640"/>
            <a:ext cx="11318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8CA6-19DB-4D30-A85F-BB843AAE95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785600"/>
            <a:ext cx="829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性中毒是指大量毒物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短时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入人体或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毒性剧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毒物突然进入人体，导致机体受损并发生功能障碍，甚至危及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变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强酸强碱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酸（如硫酸、盐酸和硝酸等）和强碱（如氢氧化钠、氢氧化钾、氧化钠和氧化钾等）均具有强烈的刺激和腐蚀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消化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呼吸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皮肤黏膜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接触眼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全身表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气体交换受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吸入强酸、强碱烟雾后致使气道黏膜充血、水肿及浆液性分泌物过多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皮肤完整性受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强酸、强碱刺激皮肤黏膜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自我形象紊乱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强腐蚀性毒物造成皮肤黏膜损害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焦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担心疾病预后、费用昂贵等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强酸、强碱急救常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线形标注 1 4"/>
          <p:cNvSpPr/>
          <p:nvPr/>
        </p:nvSpPr>
        <p:spPr>
          <a:xfrm>
            <a:off x="3419640" y="1125360"/>
            <a:ext cx="5545080" cy="3672000"/>
          </a:xfrm>
          <a:prstGeom prst="borderCallout1">
            <a:avLst>
              <a:gd name="adj1" fmla="val 18750"/>
              <a:gd name="adj2" fmla="val -8333"/>
              <a:gd name="adj3" fmla="val 46750"/>
              <a:gd name="adj4" fmla="val -1643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中毒者：尽早给予镁乳、氢氧化铝凝胶或石灰水等弱碱溶液中和强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呼吸道吸入者：立即吸氧，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溶液雾化吸入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灼伤者：快速用大量流动水冲洗，然后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或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氨水或肥皂水中和强酸，然后再用水冲洗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睛接触者：立即用大量清水或生理盐水彻底清洗，然后给予可的松及抗生素眼药水交替滴眼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线形标注 1 5"/>
          <p:cNvSpPr/>
          <p:nvPr/>
        </p:nvSpPr>
        <p:spPr>
          <a:xfrm>
            <a:off x="2987640" y="2205000"/>
            <a:ext cx="6156360" cy="3960720"/>
          </a:xfrm>
          <a:prstGeom prst="borderCallout1">
            <a:avLst>
              <a:gd name="adj1" fmla="val 18750"/>
              <a:gd name="adj2" fmla="val -8333"/>
              <a:gd name="adj3" fmla="val 34902"/>
              <a:gd name="adj4" fmla="val -1531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强碱者：立即用食醋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稀盐酸、柠檬汁或橘汁等弱酸溶液中和，然后服用生蛋清或牛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吸入强碱者：吸入性氨中毒者，保持呼吸道通畅，积极氧疗，必要时气管切开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接触者：尽快用大量流动水冲洗，然后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溶液中和强碱，应避免在冲洗前使用中和剂，以防发生中和热而加重损伤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部接触者：立即用清水反复冲洗，然后滴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硫酸阿托品。石灰灼伤者，先将石灰粉末擦拭干净，再用大量流动清水冲洗，防止石灰遇水生热而加重烧伤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营养支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腔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4284720" y="6524640"/>
            <a:ext cx="122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0F7C-4994-4502-A466-CE998E93BFF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1508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立即终止接触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吸入性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将患者从有毒环境转移到空气新鲜的地方，并解开衣扣、裤带，保持呼吸道通畅，给氧，注意保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接触性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离中毒现场，脱去污染衣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现场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跳呼吸骤停者，立即给予现场心肺复苏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5"/>
          <p:cNvSpPr/>
          <p:nvPr/>
        </p:nvSpPr>
        <p:spPr>
          <a:xfrm>
            <a:off x="4427640" y="6524640"/>
            <a:ext cx="9144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6C79-6968-4027-A648-5CA59D60444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清除尚未吸收的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清除皮肤黏膜上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去污染的衣物，先用毛巾、棉花或卫生纸等拭去肉眼可见的毒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然后用清水或肥皂水反复清洗患者体表、毛发、皮肤皱褶处、甲缝内的毒物，冲洗时间应达到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0 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分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毒物种类明确者可使用特殊清洗液（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16-1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39640" y="2133720"/>
          <a:ext cx="7704360" cy="2666880"/>
        </p:xfrm>
        <a:graphic>
          <a:graphicData uri="http://schemas.openxmlformats.org/drawingml/2006/table">
            <a:tbl>
              <a:tblPr/>
              <a:tblGrid>
                <a:gridCol w="3853080"/>
                <a:gridCol w="3851280"/>
              </a:tblGrid>
              <a:tr h="533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毒物种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肤清洁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酸性（有机磷、甲醛、强酸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氢钠或肥皂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碱性（氨水、氢氧化钠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醋酸、食醋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硼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无机磷（磷化锌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类、香蕉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乙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2484360" y="155736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6-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常见皮肤清洁剂及适应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23:25Z</dcterms:modified>
  <cp:revision>1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